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168-1F14-4346-BD9F-23ADC83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AFB-5282-41AB-BEF8-1F8AAF64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C202-10D3-4274-B051-E4251E7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00BE-DDC3-4247-B110-7263C62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27C8-A3CA-485C-8AD1-8048F9FF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EC91-0A3B-4C17-972E-2C5C697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8BDF-602A-4832-8074-2CAA8E4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1BA21-DDC9-4A80-991B-85B72FC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A926-E5DB-4A0E-9F7C-8BCCF99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FD8C-419F-4B59-9785-DB40DEA0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14F0-89E9-42A9-8278-F194D6E7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08E-891A-4E03-8BAF-DC9FDE04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F13-79E2-4D40-BBDE-9ED02D63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9ADC-53BE-4B44-99BE-8F4B93CE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7141-75F4-438C-878E-53F925F0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8A919-BCC2-427D-9C86-5DB4BBE0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0BEF-EC8E-46EB-A04E-F9B37D2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0ABE-AB13-4BAA-85B1-F2C73062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42FB-AA5F-4603-A01B-9EBD119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8C6D6-71EB-4025-8959-62EFD96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7746-364F-4FC5-AE1E-122BA77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DED2-C9A7-43E6-85CD-F92B4FA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88CB0-BCD6-4FAC-85EB-224139A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D1CC-D3CA-4DBF-8230-832E68DD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E000B-36D1-40A8-925D-F37481ED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89B41-6EC9-4F80-9EB6-ED5C4D85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D515-70AC-402D-B7F9-820B5923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FBF4-CF51-42CB-99DB-5A55080C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1717-D48C-4008-890D-AFF570A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1540-DB6E-44A0-B68F-07FABAEB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500F-1C5C-46D1-B1AB-109C906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040C-9D9B-49D9-AD21-13358E6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38DB-B650-4514-BCA6-865869D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9F4D-4DFF-4BBF-8CE8-953EA81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FE1CA-7B77-4624-AB82-E0543A28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6515-DCF3-4586-A899-85F90E05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035C-820F-41CC-96EE-05C781A8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1875-E284-4232-AC9E-37F6D497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68F9-4CDC-43CF-8EB5-491AEF2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9B2CD-98B4-4047-8311-30EF76C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6847-149D-4C27-9B12-518A436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A89BB-3AE2-4FEC-8A70-FAD8FB10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CB3CC-31EE-4BCD-84B4-9A95F482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BE1C5-DF85-4EF0-A728-29754E9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E026-7A5A-4843-B322-B943F70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5556-5460-4C34-84E3-665557C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7B1B-B44C-4725-8FED-E0B1A26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612FE-632C-40EF-A694-CE4AB611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A1ED-9A73-48E5-9D3D-D554456E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DF9F3-55AD-4113-B7F4-66060076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84E4A-A8AD-4FCB-882D-6B1A9E5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DA62-5562-4D02-846B-8B5D8E6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89242-4EC6-4572-8238-20878A8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28127-8C6A-4A7F-B496-0E26B90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2B47-4BFD-48B2-A496-AE8D890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55A57-8F00-4F25-9A9E-7557D4D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10B06-DD0D-4CA0-8F03-B4651F6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60140-0E0F-4068-A70E-B728C24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71BF1-3AC2-43D6-96F0-3515252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1667-125A-46DF-BDA9-CBEA683A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C841-DDE3-42AF-841A-84A82D7F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1897-7D21-4326-8133-82F25FE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92111-E969-473C-BAFA-A8F9C866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223F9-8039-4F1B-BB08-380C032B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D19DB-7C5D-4C60-8905-2A1E07EC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9C5D5-CFB8-439B-96DC-513F024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69A28-1950-40AE-A9A3-7B49A42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6B978-F6B3-45E5-A923-3BF6AB2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64B4C-850A-470C-BA89-A105EF6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D648-4AC9-4A53-AA23-6B826D9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25134-9875-4F54-97FB-3BAC3FB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2E3B4-9B13-470E-B551-2BE557E0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09094-DDD2-4EE3-8BD4-9FF1D83D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F0350-57D6-4D2D-A695-81FAA392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5441C-2BFA-40F8-998B-3D3C88B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3FA2-D230-4078-9BD0-3E34B9A2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8ECC2-BB28-48EF-8AE8-328EBAB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CA650-9CE8-4977-B00F-691CFF9C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68F6-3A5C-4376-8AFB-58D5FF9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0216-CCAC-44CF-BC13-122EBA6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D87-FDBD-492C-B622-545FCCC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FC66F-B0BE-45A3-AC2A-9F7BF0A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F7D1-E9F3-4151-ADDF-3ADD2B6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42FF8-ED88-457C-B437-D58354B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97CEE-F93A-463A-86F1-F5F358B7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3CAB9-0666-4EA7-8D4A-A59DA321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713ED-1499-4774-B1BF-C3253E78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FDD1F-652D-4499-A302-776A8DA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17166-7E97-457E-A054-7FABA5F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030D-1404-4DE2-9E63-E9AF8EC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4F67A-E4A5-429C-87FB-85577197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A8385-F0BE-42A1-B397-86A4F2C0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751E6-11A2-48B9-B232-DBD01F6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3F2F0-DB76-40B4-9BED-D9100B8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D30B5-6B65-4FC1-869A-517C2E6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ED2E8-BCB0-4B47-BE5F-E34EE10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F439D-C3D9-4060-AE6F-E1A1B5E0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39BD8-C76E-4F53-A5D0-2D2BEB0A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D2798-42E0-4787-817B-20FD246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0BD8-F51A-44FB-B9F4-E33DDE3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4BE5B-1415-4D69-8760-51681E41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B3A5C-CB7C-45EC-BA96-0A186F97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DF771-6842-4182-8FEE-228E1BC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55BF5-D78B-4D20-8347-629C55A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99725-55FD-43D0-A318-927E762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0E6F4-78EF-4D5B-B31A-38C389A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EB95F-370A-43A8-81A3-52109A2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0FABA-AE38-4882-9281-3589BB4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ADEC4-F228-4352-936B-69E57894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5DA38-3467-402C-94D4-B4E6AB6C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730C8-4265-4690-BCB4-4306DF6D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ADCEE-EDF6-4331-A1A2-640B371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C4142-144A-4373-88C5-7840037B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EC957-3801-494C-92A7-F1877EE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3E4EB-E696-4B78-A7C7-63C4027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A56AB-93C8-486E-8933-6BD8B8C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DF85C-F6CC-4E6F-B5A1-518256F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77C2A-1F33-4ECC-9FF0-3A6AF4C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C01DF-5FCA-46E6-A2D0-6063CBF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C595E-174E-49EB-8D76-146A5F06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1D946-FE3C-4640-9DAE-3037FCC4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9D66E-2268-4F9A-AC13-09DDB292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CBD07-50C4-44B4-BE53-386ADC75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B29DB-B1EB-4C20-BA05-14C060B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6A4B6-7B64-4C9E-80E1-A5193BFF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BE3BC-F86D-462E-AA70-5B22BC27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BAB5C-1C03-4C1C-A8CA-33839EA3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B63AD-7771-4192-BA93-193E37E2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6BEBF-32C5-48D4-94DD-BFE3D9B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07E19-E984-4E31-A15B-51F6EE8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BF117-D314-429D-8AD1-1A3FB39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548-E5C3-4B65-A214-06295C2B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A302D-9CBD-46C5-AFEE-D4021BF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7BA80-E87B-47B4-8E3F-CCC8BEA5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FB04E-3CFC-48C7-8DBB-8C017FCE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5CE07-3C0C-4AC5-8B74-430ADC83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C46FB-AA5A-4972-924E-BEBDCD06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2852C-68A0-40EB-9C08-B59A63C5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2A599-FAD6-4946-B781-577FD772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71DC2-8477-434F-BDBD-91FB37B4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D6D16-B4B8-4118-AC7E-E6354B8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EC923-DD86-4170-8553-397FB43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6B45-5396-476B-A0CF-1D61185A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2E92C-6011-4017-AD90-BDFD21B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ACC9E-1687-4C44-8618-670B46E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57CCE-7599-452E-B22B-EDC3B8E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23BA7-4E89-40D9-8A67-68C76C04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DC990-01E0-41B1-BD6B-75526F18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1D2B3-9BCE-4045-ADE3-24DFB98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3DBCA-D3EE-4920-A73B-984B9908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A33949-22D5-4FC0-8545-4378195C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7AB4C-69CF-4F5C-BFFA-0FE299E1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503C6-081C-4E3A-A853-247AC92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10FE-FB90-4559-AEBE-80E932A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CCAEA-83D6-4DB9-99E1-7C1D9D76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4A31E-3844-4A18-B340-9BE3747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A0BF5-1C48-432F-975A-C4ACAB32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B95EA-3AB7-419B-A5D9-329C0DC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EDB4D-F3AE-46F7-A42B-E03203E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0D4A3-2138-49F7-85D1-2894485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486D8-1AFA-4FCC-A8A6-EDC3FA54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30244F-C42E-4DE0-A745-24EA0AEE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D3836-14AA-4FAF-B3A8-858A1CF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6DA68-DE32-4178-9B11-24D075FF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20D-C385-4C52-9B32-955FC98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6E1DD-BDC4-437D-80F9-C5BAC32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E0A36-7509-4396-A436-F485596A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76713-9D16-4808-AF90-B25E2063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84542-E9DF-47B9-9BA0-E1B03BB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E689DB-8369-4DEF-B723-306C377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05E38-F850-438C-9B47-FEF0BCF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B3FB8-D460-4E68-9AA0-F960150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76C3E-BDDE-4EFB-9139-8B7EBBBD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044B1-198F-4FA9-9923-3677CEAF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B21E0-7FCD-4A8F-9983-740DC150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065D-D2A7-4040-AA34-1A227280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61BCB-5C82-4DE4-9436-B27A9BD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92C91-BC89-4FCB-88A5-AE27A7C8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3EFDF-DFF8-4853-8EB6-9EA24D5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457FB-9A3D-49F9-9317-C77C8B7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3037E-804A-4657-BA7C-D16115FE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73453-4885-4DDC-8ECF-B2728E84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95AFD-544A-4643-9841-2CF8C2B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3E81D-11AD-4E15-A311-CB890AC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3608C-A4F4-45FE-9B34-9B55A5B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4E411-3783-440F-B3CF-09BB2B0D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558-75E0-4108-97A3-F9F49ED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846-7715-4763-8F51-1FDE30F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BF1E6-1526-425F-B5D0-071F89EB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AA0A0-AE05-4574-801E-3588C045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4E89C-3A08-4FEF-ACA3-C38C817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A9CC9-9BFC-4AFA-AA45-F3BD723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8EBA0-98F2-4596-B9EC-EEFAE88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01C4E-BD00-4A2C-A8E0-06C544DF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D2EFB-49C4-40B1-AB09-2099736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73B4A-5978-4AAE-9FBA-FE4940E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0E7F8-3AA7-4C79-8FE4-4B9B94E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39E05-6D57-478C-9DE6-9CC0312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642-E850-4FBA-97F3-CC20766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5073F-AA59-43BA-8EF2-D081D28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862AD-366E-46DA-8A95-1111B71D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89B62-5EEB-40C2-B2D6-9F4D0193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6F25F-CBD9-49BC-8CB7-987A87F9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2D6D2-04C5-4EC2-BCB4-9F8D984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181E1-5FFB-4945-8082-9BD57B6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F09B9-98B1-4B8C-AE69-F6D6D79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3F2B9-BDB9-4684-83D5-8C6955F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01DA53-4D32-4C9C-939C-C6B2213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1AE3A-CC29-4C90-B470-E89C89DB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85D3-4A6A-453C-A54A-941F316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1E795-0EB2-4E2F-9D33-BA251FC6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8A163-5B2D-4B71-9D53-8A88070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75AA0-43FD-41F2-81E9-C3E95AF7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3080D-CB8C-4A1B-B999-3BDB2B3B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D4628-FB49-4696-93CD-AEF1F388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C8868-FB60-4A71-9E5D-ED81000A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C737E-12A2-460A-8948-3A82598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F0C1D8-3D18-403F-8337-7314D4A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2DEF04-372B-4AFB-87DC-56C9942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35145C-4624-47B0-BE92-42ED18EE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A1B6-8E9B-4832-89F2-09FE8DC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BA4E3-24FE-497E-B1C6-7BEAD0B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DCB9A-45FE-492A-A935-07D91A9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71439A-09D5-4008-8E22-1ACF676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014746-1859-4DBA-B38E-F3C023AD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AB745-8663-4F3D-A69A-AA4DE51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F5F0F-4B11-487B-8935-C275947B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1CAB1B-14D2-40E6-B327-A81548DC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AF8C11-1EFE-436B-AE07-75054BAB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F39E4A-63DC-4089-9E4E-D76F831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D2BA99-AB75-403D-BD2F-002D9300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D821-4A41-478B-A999-0264F039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A74AD-DA91-4170-99CB-194F210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AC0725-1924-4942-8C6B-FF5605A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C13BF-F9CC-4BA9-A340-8F70D4D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0EFB88-BE38-4038-B1F4-9A024B1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6870C4-216D-4765-B24B-27DCEE5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0EAEAE-2B33-4612-ADC4-6E0FFE8B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76CC0-B7A7-4FD7-985A-46C302C3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9418B0-53F1-4AAB-83EF-1353688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FED6A-2A3E-4808-8B1D-31C9B351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9038D0-C5E1-452D-A59F-80E9862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7096-E56C-44D1-8431-3EA1C384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E6342E-528D-4AB4-8EBC-FC3A232F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B3092E-881F-44E6-8AB9-35CD5A4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CD1130-8485-42AC-8815-8F761C05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2266D-F33F-4171-8BCF-7E34D4B3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4A623-D6A1-40E4-9099-03DE1FC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ED8082-6336-4FB9-88A0-1F83F4A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6AC01-8B92-418C-9B98-2D59E2DC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82B77D-6ACA-44F9-8B45-B775110B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A8E712-AD69-4CFE-9C29-BC9A8CF6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F4FD4-5872-4860-B13C-B28AEA5B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78AC-4F13-4157-AEBE-D11214E9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4AECA-FD96-4D1C-B603-2BD36D69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EEC-DDC1-4B1D-9E55-2A0348E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A3FD-9149-4DC4-95AE-B67730B0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A0F-A5CD-4FE0-8C33-16D546A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B974-481E-44BD-9CC4-2123519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C9C4-C960-406E-82C7-87B86B07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77577-46CD-44D4-8EC5-76E1ACB5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3DB2-3D2E-4A89-BFD9-7F0479F9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214A-968A-4F1B-BF75-5908396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98C9-34F0-487E-9AA1-1AD741F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298E-731F-4134-9C63-0EF3DBD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A1EC-94DA-49F0-A603-9E70AB3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7572-BD60-4A93-AFEB-679B920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9987-18FD-4208-AB8E-F21FA8F9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DB6-A613-4C9E-8E95-B4B313A1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116B-DB7A-4BC8-9617-843D0411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DE0-B2FD-4E12-B3FE-3FF350A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8C20-4D68-4621-8F2A-0C65585A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32E5-FA40-427A-A822-40D48F4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8737-8C76-4DFC-894B-85BAA93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8B74-9970-4637-A022-0A253CDC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ACA33-2049-4F3D-A6C7-567E53BB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A07F-9003-4526-BB9C-9F441F6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ED39-EE25-44D2-AA70-0051C4CD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62-26BE-4453-A939-669372A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279A-9A53-4CC8-8353-5562416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B176-CE37-4F91-991F-EDA54C4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6C6B-B0E2-430B-BB15-F356E44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8B9A-DE87-4A2B-B68D-0D168EAD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D17F-7B1D-4526-8594-5FE1AFA4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18F-96E6-4F94-ABE3-197F1BF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55EC-610D-4F76-B859-62751E65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96D7A-ABE1-45CE-A446-AFE6457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9C56-C39B-4652-B969-02F0FC17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5238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8AC0-57AB-4E95-8573-CB1F9F276FD1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955960" cy="44956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7162920" y="5468760"/>
            <a:ext cx="1981080" cy="13892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00EA-BDC8-4518-8E49-6AF75EE9D72D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0" y="3117960"/>
            <a:ext cx="4672080" cy="3740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F61-A7DE-4E55-9480-32FF5F3B8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761240" y="2971800"/>
            <a:ext cx="13827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DD53-12BE-4F7C-B949-AA0A0B832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1000" cy="3141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0" y="3906720"/>
            <a:ext cx="2971800" cy="276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672240" y="2819520"/>
            <a:ext cx="2471760" cy="403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D343-1878-44D3-8510-92524FF76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0" y="4083120"/>
            <a:ext cx="2054160" cy="277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1D99-7404-456D-B118-24849BBE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0" y="3446640"/>
            <a:ext cx="3657600" cy="34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E9D4-7CDD-4B90-8287-1FE013AE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5791320" y="4222800"/>
            <a:ext cx="3352680" cy="2635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6AD7-46F4-438E-860E-6F2C9B05C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3159000" cy="4038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5743440" y="1884240"/>
            <a:ext cx="3400560" cy="4973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7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186-C1A6-46BD-9C9B-1BD445121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4172040" y="5105520"/>
            <a:ext cx="497196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3822840" cy="5605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4960" y="304920"/>
            <a:ext cx="510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43A-EFAF-452F-BCAB-E4338757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4964040" cy="211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4191120" cy="17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7EDC-89F8-4E82-BDE7-FCC54E56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5943600" y="4087800"/>
            <a:ext cx="3200400" cy="277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B60-1CE5-40D3-9151-B778B219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3733920" y="1700280"/>
            <a:ext cx="5410080" cy="51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5809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DF8E-8285-4E0A-B632-12A4F22A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5029200" cy="488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1523880" y="69840"/>
            <a:ext cx="7620120" cy="6788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09CD-09D5-4316-B957-37BBB0556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4191120" y="3965400"/>
            <a:ext cx="4952880" cy="289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796-F5F1-40C5-9F47-4F878ED1F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0" y="4313160"/>
            <a:ext cx="5562720" cy="25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3B5A-5E18-486B-853F-8183E765C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013440" y="2971800"/>
            <a:ext cx="31305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CCE7-967E-47D7-9645-62E9EF8B0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2"/>
          <a:stretch/>
        </p:blipFill>
        <p:spPr>
          <a:xfrm>
            <a:off x="0" y="2809800"/>
            <a:ext cx="6324480" cy="404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2EAD-ABB7-4A1E-82E8-A80B4C6E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647-8064-4274-AB5A-5689ED97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5943600" y="4087800"/>
            <a:ext cx="3200400" cy="277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59880" y="4419720"/>
            <a:ext cx="1284120" cy="1963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DEBD-6CAE-4CEE-AC86-F78FA105FDBC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BD7E-93E4-4015-822F-2A36322C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3733920" y="1700280"/>
            <a:ext cx="5410080" cy="51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3700440" cy="5605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rcRect l="40891" t="0" r="0" b="0"/>
          <a:stretch/>
        </p:blipFill>
        <p:spPr>
          <a:xfrm>
            <a:off x="7872480" y="4114800"/>
            <a:ext cx="127152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1A4-C66B-4F2B-9740-031E75D0A660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228600" y="2895480"/>
            <a:ext cx="3727440" cy="3962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178840" y="4038480"/>
            <a:ext cx="965160" cy="2328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D23-F9DA-4E76-8D81-A11262D4B110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2324160" cy="56055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886880" y="4876920"/>
            <a:ext cx="1257120" cy="1981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08B2-CC2E-498C-918F-788D787BB168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ShMA85pv8M" TargetMode="External"/><Relationship Id="rId2" Type="http://schemas.openxmlformats.org/officeDocument/2006/relationships/slideLayout" Target="../slideLayouts/slideLayout3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1981080" y="609480"/>
            <a:ext cx="5214960" cy="19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UN WITH PUNS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376360" y="3108240"/>
            <a:ext cx="439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PUNNY STO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8" name=""/>
          <p:cNvSpPr/>
          <p:nvPr/>
        </p:nvSpPr>
        <p:spPr>
          <a:xfrm>
            <a:off x="5791320" y="4495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how presentation retrieved from: www.slideshare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302EE-8C51-4FA4-9A49-B47C39CC14FB}" type="slidenum">
              <a:t>1</a:t>
            </a:fld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200400" y="205740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used to b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ac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found I didn't have enough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762120" y="1066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was a job in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ho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factory; I tried but I just didn’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f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3A132-398F-4447-B41F-65D59422ECCC}" type="slidenum">
              <a:t>11</a:t>
            </a:fld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4267080" y="167652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ext, I found being a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electricia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interesting, but the work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shock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762120" y="762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d worked in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come Tax Depart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it was just too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x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4D247-3E41-4C21-869F-F386041F430B}" type="slidenum">
              <a:t>13</a:t>
            </a:fld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99072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used to be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I didn't make enoug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oug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609480" y="160020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last job was as a professional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isherm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discovered that I couldn’t live on m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B78F0C-A2EE-43AD-ABFC-73DF2F346C29}" type="slidenum">
              <a:t>15</a:t>
            </a:fld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s are Fu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bott and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6A0A4-89B3-430C-BE83-B83436BED0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4495680" y="167652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first job was working in a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range jui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actory, but I go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n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ouldn’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entrat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57200" y="4572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n I worked in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o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s 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umberjac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but I just couldn’t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c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it, so they gave me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x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DA5AD-9B6F-48E8-A3F2-E5186C8EE85F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2895480" y="685800"/>
            <a:ext cx="312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managed to get a good job working for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po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maintenance company, but the work was just too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drain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EC2F-C098-4877-A06A-1B39C97C7B46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4419720" y="129528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 that I tried to be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l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I just wasn’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i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or it. Mainly because it was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-s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85800" y="6094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xt I tried working in a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uffl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actory but that was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exhaust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7021F-02A0-45BD-8EA6-7E760DFB7ACD}" type="slidenum">
              <a:t>6</a:t>
            </a:fld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4495680" y="198108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wanted to be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rb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but I just did not have 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or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533520" y="609480"/>
            <a:ext cx="335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n I tried to b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e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figured it would add a litt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p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my life but I just didn’t have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y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23FB7-DD4D-42CB-9A8E-9901C52F0408}" type="slidenum">
              <a:t>8</a:t>
            </a:fld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33520" y="83808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tudied a long time to becom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ct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I didn’t have an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ti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56CA5-8EE6-4D40-B1D8-5F41643F7EAC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44:11Z</dcterms:created>
  <dc:creator>VISTA</dc:creator>
  <dc:description/>
  <dc:language>en-US</dc:language>
  <cp:lastModifiedBy>Justin Heyd</cp:lastModifiedBy>
  <dcterms:modified xsi:type="dcterms:W3CDTF">2010-12-09T07:06:5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